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841-F95B-483D-A954-242893C9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E4E-8FCB-4AAE-B4E0-5A26D017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49E-AEF8-4940-9346-E4240C4A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34E-159E-443B-BFB2-B242BA5F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F30-5B12-4CC3-9B08-036F30EF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047-7497-45E7-91FF-E0A285F9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F39-0E9C-42FB-B5C9-ED060750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33B-7EA9-4092-B02D-161369F4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004-6D11-4777-AD9B-48D1E6AC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90A-ED99-4138-9B89-17B83EB3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607-7A07-430A-B552-C839118D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F53-EF21-4A92-84D8-B0F74077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459-91E2-4B2F-A258-EECB9CCF3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ell The Good New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’s Journey To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12 Lesson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03-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20E-0B9C-4C6E-B5E5-0D3158FD7325}" type="slidenum">
              <a:t>1</a:t>
            </a:fld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44C-BDCC-4FC3-8B41-32A0D7AE0A69}" type="slidenum">
              <a:t>2</a:t>
            </a:fld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ews had made accusation against Paul declaring that he ought to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stus, the Roman governor, would have sent him to Jerusalem to be judged, but Paul appealed to Cae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stus then agrees to send Paul to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and other prisoners were given into the custody of a centurion named Ju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1AB-05EB-4FBD-ABD1-525610189223}" type="slidenum">
              <a:t>3</a:t>
            </a:fld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diers and their prisoners boarded a ship from Adramyttium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ah MITT 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t sail north stopping briefly at S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rip proved difficult because the winds were cont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me to Myra where they boarded a grain ship headed for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uch difficulty, they were able to sail west by hugging the coas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11C-FE5B-4F39-AD35-C61F41758765}" type="slidenum">
              <a:t>4</a:t>
            </a:fld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nidus they had to put out to open sea and arrived at a place called Fair H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is time it was the middle of October or later, quite late in the season to be s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warns those in charge not to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urion agreed with the captain and sailing master to go west a few more miles to a better harbor in which to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6CB-C385-4639-ABE7-F0F2A70AB0F4}" type="slidenum">
              <a:t>5</a:t>
            </a:fld>
          </a:p>
        </p:txBody>
      </p:sp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oner had they set out than a fierce storm arose blowing the ship off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auda they secured the lifeboat, wrapped the ship with cables, lowered the sails and let the ship be driven by the 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now in grave danger of being driven onto the sh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eeks went by with them seeing neither sun nor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FBD-EC83-4161-A456-8188EDC7E145}" type="slidenum">
              <a:t>6</a:t>
            </a:fld>
          </a:p>
        </p:txBody>
      </p:sp>
    </p:spTree>
  </p:cSld>
  <p:transition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day after Cauda they threw cargo overboard, the second day the ship’s tackle was thrown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ope seemed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n an angel appeared to Paul and told him the ship would be lost but no one would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reassured the men urging them to take hear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1EF-34BB-4B0B-A1BA-9384FDE58739}" type="slidenum">
              <a:t>7</a:t>
            </a:fld>
          </a:p>
        </p:txBody>
      </p:sp>
    </p:spTree>
  </p:cSld>
  <p:transition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ourteenth night of the storm the sailors sensed they were drawing nea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ilors sought to escape from the ship by lifeboat, but Paul told the centurion and the soldiers unless these remain in the ship you cannot be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diers cut away the ropes from the lifeboat dropping it into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urged them all to tak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906-A6EF-4548-88D2-03E982A279BD}" type="slidenum">
              <a:t>8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eat was thrown over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ip hit a reef and began to break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diers wanted to kill the prisoners but the centurion, intent on saving Paul, re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276 people on boar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hed shore by swimming or floating on deb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9E7-FB48-4355-B7C9-CC56945EE7E2}" type="slidenum">
              <a:t>9</a:t>
            </a:fld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6:03:39Z</dcterms:created>
  <dc:creator>billy lauderdale</dc:creator>
  <dc:description/>
  <dc:language>en-US</dc:language>
  <cp:lastModifiedBy>billy lauderdale</cp:lastModifiedBy>
  <dcterms:modified xsi:type="dcterms:W3CDTF">2006-12-23T06:24:31Z</dcterms:modified>
  <cp:revision>16</cp:revision>
  <dc:subject/>
  <dc:title>Slide 1</dc:title>
</cp:coreProperties>
</file>